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14280"/>
        <c:axId val="89870828"/>
      </c:barChart>
      <c:catAx>
        <c:axId val="31414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70828"/>
        <c:crosses val="autoZero"/>
        <c:auto val="1"/>
        <c:lblAlgn val="ctr"/>
        <c:lblOffset val="100"/>
        <c:noMultiLvlLbl val="0"/>
      </c:catAx>
      <c:valAx>
        <c:axId val="89870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14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806-4A33-4800-BF57-F661AEA5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3BF-97AA-4010-97E9-2BC656C6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302-38B1-4257-8926-6BD85A48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590-D2C4-48CD-BCAC-86A37D6C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176-1EE2-4517-9404-8BA3ACEE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3EC-8CCA-41F4-B5EE-6F359F28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22C-11A5-4738-87BF-3C5DBFB9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4E5-911C-4372-B243-D6323AD9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569-42BC-46E2-A9C9-2883D31D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74C-7073-4024-B50B-4C2C7103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0F7-6198-4FBC-8BCF-FE60B824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4A2-C9D1-499C-BE82-FC4248C1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61026-69B8-478F-BB29-BED89F50F1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