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02468"/>
        <c:axId val="33518664"/>
      </c:barChart>
      <c:catAx>
        <c:axId val="20902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18664"/>
        <c:crosses val="autoZero"/>
        <c:auto val="1"/>
        <c:lblAlgn val="ctr"/>
        <c:lblOffset val="100"/>
        <c:noMultiLvlLbl val="0"/>
      </c:catAx>
      <c:valAx>
        <c:axId val="335186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02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BCCB-E5D9-4B69-8F8D-754B2A193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1C20-17F1-4536-A3E1-6E129341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EBA3-9695-4A4E-82ED-574117466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B485-2F45-4A23-A13C-CDF74B27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A6AC-0E01-40A6-90CF-47F0BFFD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488-BDD1-4FED-AEA4-121A6D08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06EF-45DE-4004-BBD4-68EC3303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71D8-094E-4090-B824-84F972A1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ED1-7494-4BFE-80F1-1B8F23B3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3FC-9FCE-4A77-94AB-6DEFFBC2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2E5-890A-4372-9C64-B3722C95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74F-6F6A-48AF-8040-FF1A8455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9BC14-6ADD-4066-B85E-F25E195145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