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271-A02C-480F-9222-16D7F4C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5B6-4314-406A-9F32-FBC02F11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0B3-EC3F-4122-9CC8-C164DDDE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C1D-1D0A-450C-9B4A-C752ED27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90D-81F3-4FA8-9924-3B80A95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CFC-E875-4522-BF30-276615B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0B8-F25E-4652-A5A0-4B9B5128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607-A746-4D96-9157-6316DF3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9E1-98B4-4BDB-858B-00EFC5D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F94-4279-4293-A952-B816180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4D1-87D6-43DC-9D55-415E7A8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C89-EA64-4818-91A4-7D57E13B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DECC-AEBD-4F3B-8231-7103ACAE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n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219320"/>
            <a:ext cx="9903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19320"/>
            <a:ext cx="1447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1219320"/>
            <a:ext cx="1295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219320"/>
            <a:ext cx="1676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RelCont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362320"/>
            <a:ext cx="17528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8" idx="0"/>
            <a:endCxn id="42" idx="2"/>
          </p:cNvCxnSpPr>
          <p:nvPr/>
        </p:nvCxnSpPr>
        <p:spPr>
          <a:xfrm flipH="1" flipV="1">
            <a:off x="990720" y="1523880"/>
            <a:ext cx="118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8" idx="0"/>
            <a:endCxn id="43" idx="2"/>
          </p:cNvCxnSpPr>
          <p:nvPr/>
        </p:nvCxnSpPr>
        <p:spPr>
          <a:xfrm flipV="1">
            <a:off x="2171520" y="15238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8" idx="0"/>
            <a:endCxn id="45" idx="2"/>
          </p:cNvCxnSpPr>
          <p:nvPr/>
        </p:nvCxnSpPr>
        <p:spPr>
          <a:xfrm flipV="1">
            <a:off x="2171520" y="1523880"/>
            <a:ext cx="99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724280" y="3352680"/>
            <a:ext cx="2667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Object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0"/>
            <a:endCxn id="48" idx="2"/>
          </p:cNvCxnSpPr>
          <p:nvPr/>
        </p:nvCxnSpPr>
        <p:spPr>
          <a:xfrm flipH="1" flipV="1">
            <a:off x="2171520" y="2666880"/>
            <a:ext cx="38865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2" idx="0"/>
            <a:endCxn id="44" idx="2"/>
          </p:cNvCxnSpPr>
          <p:nvPr/>
        </p:nvCxnSpPr>
        <p:spPr>
          <a:xfrm flipH="1" flipV="1">
            <a:off x="4533840" y="1523880"/>
            <a:ext cx="1524240" cy="18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0"/>
            <a:endCxn id="46" idx="2"/>
          </p:cNvCxnSpPr>
          <p:nvPr/>
        </p:nvCxnSpPr>
        <p:spPr>
          <a:xfrm flipV="1">
            <a:off x="6057720" y="1523880"/>
            <a:ext cx="360" cy="18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2" idx="0"/>
            <a:endCxn id="47" idx="2"/>
          </p:cNvCxnSpPr>
          <p:nvPr/>
        </p:nvCxnSpPr>
        <p:spPr>
          <a:xfrm flipV="1">
            <a:off x="6057720" y="1523880"/>
            <a:ext cx="1638720" cy="18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248520" y="4419720"/>
            <a:ext cx="21333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2133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any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04840" y="4419720"/>
            <a:ext cx="2133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ne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8" idx="0"/>
            <a:endCxn id="52" idx="2"/>
          </p:cNvCxnSpPr>
          <p:nvPr/>
        </p:nvCxnSpPr>
        <p:spPr>
          <a:xfrm flipV="1">
            <a:off x="4724280" y="3657600"/>
            <a:ext cx="1333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7" idx="0"/>
            <a:endCxn id="52" idx="2"/>
          </p:cNvCxnSpPr>
          <p:nvPr/>
        </p:nvCxnSpPr>
        <p:spPr>
          <a:xfrm flipH="1" flipV="1">
            <a:off x="6057720" y="3657600"/>
            <a:ext cx="1257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0"/>
            <a:endCxn id="48" idx="2"/>
          </p:cNvCxnSpPr>
          <p:nvPr/>
        </p:nvCxnSpPr>
        <p:spPr>
          <a:xfrm flipV="1">
            <a:off x="2171520" y="2666880"/>
            <a:ext cx="3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2:32:26Z</dcterms:created>
  <dc:creator>Erik Dahl</dc:creator>
  <dc:description/>
  <dc:language>en-US</dc:language>
  <cp:lastModifiedBy>Erik Dahl</cp:lastModifiedBy>
  <dcterms:modified xsi:type="dcterms:W3CDTF">2005-09-02T22:41:02Z</dcterms:modified>
  <cp:revision>8</cp:revision>
  <dc:subject/>
  <dc:title>PowerPoint Presentation</dc:title>
</cp:coreProperties>
</file>